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1B0-C2CB-4877-8A52-34353BF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A05-915A-4CE0-A69F-A1386B2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C02-3197-4038-80AC-1DC28BE4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00D-A16B-44A2-8A24-0FC02B8C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979-9801-4653-B241-778A07A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660-E7CA-46DA-A4E2-C8F67362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B3A-B336-4DD9-A53F-724D9413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906-0440-486F-A999-E592A6C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693-995B-4C61-9E0C-0DD4FDA7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BC7-EABD-464E-8B24-29E6312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703-89D9-4091-8DB8-C1F7CF6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C6F-94C9-4286-B9F9-3CE17E0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A2E-D36E-4C82-9A5E-1BAC1296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94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84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its size doesn’t matter to the variability of the statistic (the resul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286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Try p. 232 #42 a &amp;b,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10666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2 (a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I am 95% confident that the true percent of the population that think Women had to give up too much to get better jobs is between 45% and 5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" y="3652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2 (b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Because 48% is just from the one sample (the one poll).  Samples are not always representative of the population.  This is why we need the 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6320" y="228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43)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en = 472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argin of error =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Women = 1025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margin of error = 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2280" y="20289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he margin of error for the men was larger because they had a smaller sample size.  So their sample is more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variable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 (wider histogram, less accura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2280" y="663480"/>
            <a:ext cx="8839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re are two local high schools, Central High and North High.  Central has 1,000 students and North has 3,500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researcher wants to determine the average income for the families that send their students to the different high sch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He has 2 different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5%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100 students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280" y="663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p. 234-235 #45 &amp; 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 of Error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8600" y="53352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newspaper article states that they took a poll of Americans and found that 65% of them think the President is doing a good job.  They say that they are 95% confident about their results, but they have a margin of error of plus or minus3%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he’s doing a good job?  Do you trust their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380880"/>
            <a:ext cx="8686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 article the next day saying that they were wrong, that they have a margin of error of 30%, not 3%.  They are still 95% confident in their results though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28600" y="380880"/>
            <a:ext cx="86868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 same newspaper prints another article.  They took a new sample because their realized their margin of error was too high before.  So now they have a margin of error of 5%.  But they are only 60% confident in their results n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What can you infer about the % of ALL Americans that think the President is doing a good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" y="3808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Margin of Err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Want it to be a low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1778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Its always a plus or minus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" y="24638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ually paired with a level of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31240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the level of confidence and the margin of error to decide whether you trust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483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Larger samples mean lower margin of err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" y="3808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Confidenc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Use both level of confidence, and margin of error, conclude abou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2280" y="2479680"/>
            <a:ext cx="8915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90% confident that 45% vote for Democrat, having a margin of error of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I am 90% confident that the true percent of the population that will vote for the Democrat is between 42% and 48%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54:33Z</dcterms:created>
  <dc:creator>Lauren Senske</dc:creator>
  <dc:description/>
  <dc:language>en-US</dc:language>
  <cp:lastModifiedBy>Lauren Senske</cp:lastModifiedBy>
  <dcterms:modified xsi:type="dcterms:W3CDTF">2010-10-15T12:53:09Z</dcterms:modified>
  <cp:revision>19</cp:revision>
  <dc:subject/>
  <dc:title>Slide 1</dc:title>
</cp:coreProperties>
</file>